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FABF9A3-E67B-4A36-9246-171ED8E68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560A96D-A0A4-48A2-BFAA-D2D5E887B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AA93D0B-721A-4C6F-9492-2FC749E29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155CB0A-CB23-46A6-9A81-C68DD7C31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2B1766-C9CC-456D-896D-C45799743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97C81-6567-4299-9034-477499C9B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1B26D-7CEB-42FD-8FA3-B6F6AF8B6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7E1B5-795C-45A1-866B-14048A738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DBDF7-8960-4951-8492-3AD8F8F1B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A74D1-1CA0-409F-9151-682D76052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2A9FE-2C9D-40E2-BA50-FC56987D8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F0155FA-4BEE-4DB7-86E7-014C64A00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64CB9-4B38-44C5-B837-578949343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AE4F9-B657-4876-9652-CFBE781AB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21A20-CEAF-45FF-9F0A-766D59ABD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DBFE23-1E17-4F03-88B9-118419DD13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55F636-EFE4-4AEF-99C8-4AD3276804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5F4BF33-80CD-48CA-8AD7-EA1AC9B67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2A15F8A-A7F6-42EB-948E-4CC196203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3C30532-0D91-4380-B915-041207EF9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DEA224E-199C-4353-8002-0A035831A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2C96F62-6B86-4995-B750-4705791DC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B16BC8F-1137-4E28-A0A0-9E40717B7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B7B204E-BB96-4CDB-94FD-8FCA8831D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3A7C8-2E87-4804-985D-4FF368C6C6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8B2B-6BE1-465C-98AB-0A7241A433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752480" y="1371600"/>
            <a:ext cx="5715000" cy="4113360"/>
          </a:xfrm>
          <a:prstGeom prst="rect">
            <a:avLst/>
          </a:prstGeom>
          <a:ln w="0">
            <a:noFill/>
          </a:ln>
        </p:spPr>
      </p:pic>
      <p:sp>
        <p:nvSpPr>
          <p:cNvPr id="101" name=""/>
          <p:cNvSpPr txBox="1"/>
          <p:nvPr/>
        </p:nvSpPr>
        <p:spPr>
          <a:xfrm>
            <a:off x="609480" y="228600"/>
            <a:ext cx="8143920" cy="131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re Rural Information Technology School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02" name=""/>
          <p:cNvSpPr txBox="1"/>
          <p:nvPr/>
        </p:nvSpPr>
        <p:spPr>
          <a:xfrm>
            <a:off x="609480" y="5486400"/>
            <a:ext cx="8143920" cy="10857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Principals' Retreat - 2008</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als’ Workshops</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has been much discussion this year as I have traveled around about the need for workshops for the principals in the Cluster.</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 would love for us to discuss this after morning tea as part of our Visioning session, please consider whether this is what you want and if so, what will we cover in these sess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oday’s Programme</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 a.m. </a:t>
            </a:r>
            <a:r>
              <a:rPr b="0" lang="en-US" sz="3200" spc="-1" strike="noStrike">
                <a:solidFill>
                  <a:srgbClr val="ffffff"/>
                </a:solidFill>
                <a:latin typeface="Garamond"/>
              </a:rPr>
              <a:t>	</a:t>
            </a:r>
            <a:r>
              <a:rPr b="0" lang="en-US" sz="3200" spc="-1" strike="noStrike">
                <a:solidFill>
                  <a:srgbClr val="ffffff"/>
                </a:solidFill>
                <a:latin typeface="Garamond"/>
              </a:rPr>
              <a:t>Coffee and networking</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30 a.m. </a:t>
            </a:r>
            <a:r>
              <a:rPr b="0" lang="en-US" sz="3200" spc="-1" strike="noStrike">
                <a:solidFill>
                  <a:srgbClr val="ffffff"/>
                </a:solidFill>
                <a:latin typeface="Garamond"/>
              </a:rPr>
              <a:t>	</a:t>
            </a:r>
            <a:r>
              <a:rPr b="0" lang="en-US" sz="3200" spc="-1" strike="noStrike">
                <a:solidFill>
                  <a:srgbClr val="ffffff"/>
                </a:solidFill>
                <a:latin typeface="Garamond"/>
              </a:rPr>
              <a:t>Housekeeping</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30 a.m. </a:t>
            </a:r>
            <a:r>
              <a:rPr b="0" lang="en-US" sz="3200" spc="-1" strike="noStrike">
                <a:solidFill>
                  <a:srgbClr val="ffffff"/>
                </a:solidFill>
                <a:latin typeface="Garamond"/>
              </a:rPr>
              <a:t>	</a:t>
            </a:r>
            <a:r>
              <a:rPr b="0" lang="en-US" sz="3200" spc="-1" strike="noStrike">
                <a:solidFill>
                  <a:srgbClr val="ffffff"/>
                </a:solidFill>
                <a:latin typeface="Garamond"/>
              </a:rPr>
              <a:t>Morning Tea</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1 a.m. </a:t>
            </a:r>
            <a:r>
              <a:rPr b="0" lang="en-US" sz="3200" spc="-1" strike="noStrike">
                <a:solidFill>
                  <a:srgbClr val="ffffff"/>
                </a:solidFill>
                <a:latin typeface="Garamond"/>
              </a:rPr>
              <a:t>	</a:t>
            </a:r>
            <a:r>
              <a:rPr b="0" lang="en-US" sz="3200" spc="-1" strike="noStrike">
                <a:solidFill>
                  <a:srgbClr val="ffffff"/>
                </a:solidFill>
                <a:latin typeface="Garamond"/>
              </a:rPr>
              <a:t>Visioning – Cluster pathway</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 noon  </a:t>
            </a:r>
            <a:r>
              <a:rPr b="0" lang="en-US" sz="3200" spc="-1" strike="noStrike">
                <a:solidFill>
                  <a:srgbClr val="ffffff"/>
                </a:solidFill>
                <a:latin typeface="Garamond"/>
              </a:rPr>
              <a:t>	</a:t>
            </a:r>
            <a:r>
              <a:rPr b="0" lang="en-US" sz="3200" spc="-1" strike="noStrike">
                <a:solidFill>
                  <a:srgbClr val="ffffff"/>
                </a:solidFill>
                <a:latin typeface="Garamond"/>
              </a:rPr>
              <a:t>Lunch</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p.m. </a:t>
            </a:r>
            <a:r>
              <a:rPr b="0" lang="en-US" sz="3200" spc="-1" strike="noStrike">
                <a:solidFill>
                  <a:srgbClr val="ffffff"/>
                </a:solidFill>
                <a:latin typeface="Garamond"/>
              </a:rPr>
              <a:t>	</a:t>
            </a:r>
            <a:r>
              <a:rPr b="0" lang="en-US" sz="3200" spc="-1" strike="noStrike">
                <a:solidFill>
                  <a:srgbClr val="ffffff"/>
                </a:solidFill>
                <a:latin typeface="Garamond"/>
              </a:rPr>
              <a:t>Wikispaces – Cluster Wikispace</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p.m. </a:t>
            </a:r>
            <a:r>
              <a:rPr b="0" lang="en-US" sz="3200" spc="-1" strike="noStrike">
                <a:solidFill>
                  <a:srgbClr val="ffffff"/>
                </a:solidFill>
                <a:latin typeface="Garamond"/>
              </a:rPr>
              <a:t>	</a:t>
            </a:r>
            <a:r>
              <a:rPr b="0" lang="en-US" sz="3200" spc="-1" strike="noStrike">
                <a:solidFill>
                  <a:srgbClr val="ffffff"/>
                </a:solidFill>
                <a:latin typeface="Garamond"/>
              </a:rPr>
              <a:t>Workshop – Software exploration</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p.m.</a:t>
            </a:r>
            <a:r>
              <a:rPr b="0" lang="en-US" sz="3200" spc="-1" strike="noStrike">
                <a:solidFill>
                  <a:srgbClr val="ffffff"/>
                </a:solidFill>
                <a:latin typeface="Garamond"/>
              </a:rPr>
              <a:t>	</a:t>
            </a:r>
            <a:r>
              <a:rPr b="0" lang="en-US" sz="3200" spc="-1" strike="noStrike">
                <a:solidFill>
                  <a:srgbClr val="ffffff"/>
                </a:solidFill>
                <a:latin typeface="Garamond"/>
              </a:rPr>
              <a:t>Coffee and finis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use Keeping</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nagement Team, Facilitator and Director</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verview for the Year - Programme</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adings – 2 per term</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kshops</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cilitator Time – ½ day per FTTE (0.8 FTTE)</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gional Meetings/Milestones and expectations</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cussion – Principals’ workshops</a:t>
            </a:r>
            <a:endParaRPr b="0" lang="en-US" sz="3200" spc="-1" strike="noStrike">
              <a:solidFill>
                <a:srgbClr val="ffffff"/>
              </a:solidFill>
              <a:latin typeface="Garamon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gramme Overview</a:t>
            </a:r>
            <a:endParaRPr b="1" lang="en-US" sz="4400" spc="-1" strike="noStrike">
              <a:solidFill>
                <a:srgbClr val="e5e5ff"/>
              </a:solidFill>
              <a:latin typeface="Garamond"/>
            </a:endParaRPr>
          </a:p>
        </p:txBody>
      </p:sp>
      <p:pic>
        <p:nvPicPr>
          <p:cNvPr id="108" name="" descr=""/>
          <p:cNvPicPr/>
          <p:nvPr/>
        </p:nvPicPr>
        <p:blipFill>
          <a:blip r:embed="rId1"/>
          <a:stretch/>
        </p:blipFill>
        <p:spPr>
          <a:xfrm>
            <a:off x="838080" y="1298520"/>
            <a:ext cx="7696440" cy="528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ading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wo per term </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ne will be Pedagogy based (probably based on Inquiry) as that is the context for most schools within the Cluster.</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e will be ICT based </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se are designed for Principals to use as a reflective reading with teachers as part of your  P.D. programme – probably at staff meeting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shops</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Term One</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quiry Process – Basics</a:t>
            </a: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Term Two</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kills e.g. thinking, researching, questioning etc</a:t>
            </a: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Term Three</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rategies e.g. M.I., Blooms, 6 Thinking Hats etc</a:t>
            </a: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Term Four</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CT integration – sharing sessions for teachers</a:t>
            </a: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Keynote Speaker</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ny Ryan – 29 March – Queenstown – Thinking Classrooms, Emotional Intelligences etc</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ath Murdoch – 16 April – evening session – Inquiry – where to from here</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enni Wilson – end of Term Two – Inquiry</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ill Hammonds – T3 or T4 – ICT integr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acilitator Time</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is calculated as ½ a day per FTTE including the Principal. (0.8 FTTE) upwards</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be used to work 1-to-1, peers, groups, whole staff, teaching students, classes etc</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need to know at least a week before so I can prepare for my sessions at your schools – please ensure this happens so everyone gets the best they can from my time.</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am happy to work in anyway that best suits you and your teaching staff, just ask if you are unsur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gional Meetings/Milestones</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rector and Facilitator must attend the learning@schools conference each year.</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is one regional meeting each term for the Directors and Facilitator from each Cluster and this year there will be two home group meetings happening for all principals in the clusters (hopefully if the MOE is organised).</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ilestone Reports are due into the MOE in June and November this year (there were four last year).  Please refer to your Action Plans for details around expectations for these.</a:t>
            </a:r>
            <a:endParaRPr b="0" lang="en-US" sz="2800" spc="-1" strike="noStrike">
              <a:solidFill>
                <a:srgbClr val="ffffff"/>
              </a:solidFill>
              <a:latin typeface="Garamond"/>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01:03:34Z</dcterms:created>
  <dc:creator>Bronwyn Fennessy</dc:creator>
  <dc:description/>
  <dc:language>en-US</dc:language>
  <cp:lastModifiedBy>Bronwyn Fennessy</cp:lastModifiedBy>
  <dcterms:modified xsi:type="dcterms:W3CDTF">2008-02-29T01:36:27Z</dcterms:modified>
  <cp:revision>4</cp:revision>
  <dc:subject/>
  <dc:title>Slide 1</dc:title>
</cp:coreProperties>
</file>